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1816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6CF6F23-B435-41B2-B7FC-9C6A266DD8D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F8483B3-0632-436A-AE63-4B1934C2E68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85C0-34DE-4AAC-901E-2A9009C9049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9163-37DD-4B2C-BE9C-85D9329D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F660-4EA0-457E-BD22-40CD4AEE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803-5437-4B3C-ADFB-560C6AD1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72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0036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44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72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0036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82D8-CCD5-4B4F-822D-45E8A0C0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ECBC-BFF0-4137-80FC-B37EC960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AA69-20DD-4713-BFF9-441B5C9B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D812-629A-4575-A916-EE51A5A0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B2A9-20CE-49FA-8B71-A24DF380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105C-72D3-4731-9408-6B9EC42F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40C3-4751-450A-BCAE-1CC87DF2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92F5-A5FD-46B1-B81A-1C647925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74A-123C-42C9-B74C-D6B87EE1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CF76-BA8C-4685-85DA-31D9E4CE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BD93-8A67-4F64-855C-C1FFC6EC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FEE3-2A38-4FA4-850D-24DB9AD9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E9CB-4114-47D3-A170-040ECA0E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7272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00360" y="136980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44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7272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00360" y="3764520"/>
            <a:ext cx="250236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79A4-69CA-435A-B641-FFD31E79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F117-ECE1-4AE1-92B7-732977E6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02F0-E4C4-47B2-8540-D8574D70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8DC3-560E-4B70-8E69-F7B260FC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D82C-5789-452F-9D06-B4DF63C3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AF50-BAD3-40F9-9BAE-4C50707D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7400" y="376452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4F50-FE1E-4A7F-BC6C-80FAB36A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472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7400" y="1369800"/>
            <a:ext cx="37926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4720" y="3764520"/>
            <a:ext cx="7772400" cy="21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27E1-721A-4C5C-9D47-04D2F147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700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20720" indent="-27144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665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748C-EDE3-4BD7-8659-60F0F08AF3EA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260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971640" y="1028880"/>
            <a:ext cx="7996320" cy="0"/>
          </a:xfrm>
          <a:prstGeom prst="line">
            <a:avLst/>
          </a:prstGeom>
          <a:ln w="1908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1109520" y="264960"/>
            <a:ext cx="8263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0" y="2819520"/>
            <a:ext cx="755640" cy="4038480"/>
          </a:xfrm>
          <a:prstGeom prst="rect">
            <a:avLst/>
          </a:prstGeom>
          <a:gradFill rotWithShape="0">
            <a:gsLst>
              <a:gs pos="0">
                <a:srgbClr val="00458a"/>
              </a:gs>
              <a:gs pos="100000">
                <a:srgbClr val="1f5c98"/>
              </a:gs>
            </a:gsLst>
            <a:lin ang="5400000"/>
          </a:gradFill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9"/>
          <p:cNvSpPr/>
          <p:nvPr/>
        </p:nvSpPr>
        <p:spPr>
          <a:xfrm>
            <a:off x="0" y="0"/>
            <a:ext cx="755640" cy="2852640"/>
          </a:xfrm>
          <a:prstGeom prst="rect">
            <a:avLst/>
          </a:prstGeom>
          <a:noFill/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8" descr="logo_mcc_orizzontale NO MCC"/>
          <p:cNvPicPr/>
          <p:nvPr/>
        </p:nvPicPr>
        <p:blipFill>
          <a:blip r:embed="rId2"/>
          <a:stretch/>
        </p:blipFill>
        <p:spPr>
          <a:xfrm>
            <a:off x="82440" y="-171360"/>
            <a:ext cx="563760" cy="32511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0" y="6151680"/>
            <a:ext cx="789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FAC5-FBF1-4EC2-9DE9-0E6A51C3AB17}" type="slidenum">
              <a:rPr b="1" lang="it-IT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5"/>
          <p:cNvSpPr/>
          <p:nvPr/>
        </p:nvSpPr>
        <p:spPr>
          <a:xfrm>
            <a:off x="1046160" y="3357720"/>
            <a:ext cx="7773840" cy="0"/>
          </a:xfrm>
          <a:prstGeom prst="line">
            <a:avLst/>
          </a:prstGeom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6"/>
          <p:cNvSpPr/>
          <p:nvPr/>
        </p:nvSpPr>
        <p:spPr>
          <a:xfrm>
            <a:off x="1046160" y="4149720"/>
            <a:ext cx="7773840" cy="0"/>
          </a:xfrm>
          <a:prstGeom prst="line">
            <a:avLst/>
          </a:prstGeom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2"/>
          <p:cNvSpPr/>
          <p:nvPr/>
        </p:nvSpPr>
        <p:spPr>
          <a:xfrm>
            <a:off x="0" y="0"/>
            <a:ext cx="755640" cy="6858000"/>
          </a:xfrm>
          <a:prstGeom prst="rect">
            <a:avLst/>
          </a:prstGeom>
          <a:gradFill rotWithShape="0">
            <a:gsLst>
              <a:gs pos="0">
                <a:srgbClr val="00458a"/>
              </a:gs>
              <a:gs pos="100000">
                <a:srgbClr val="1f5c98"/>
              </a:gs>
            </a:gsLst>
            <a:lin ang="5400000"/>
          </a:gradFill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5"/>
          <p:cNvSpPr/>
          <p:nvPr/>
        </p:nvSpPr>
        <p:spPr>
          <a:xfrm>
            <a:off x="1042920" y="6165720"/>
            <a:ext cx="7774200" cy="0"/>
          </a:xfrm>
          <a:prstGeom prst="line">
            <a:avLst/>
          </a:prstGeom>
          <a:ln w="9360">
            <a:solidFill>
              <a:srgbClr val="0045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8" descr="logo_mcc_orizzontale NO MCC"/>
          <p:cNvPicPr/>
          <p:nvPr/>
        </p:nvPicPr>
        <p:blipFill>
          <a:blip r:embed="rId2"/>
          <a:stretch/>
        </p:blipFill>
        <p:spPr>
          <a:xfrm>
            <a:off x="361800" y="477720"/>
            <a:ext cx="4978440" cy="863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44720" y="136980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700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20720" indent="-27144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2165400" indent="-270000">
              <a:spcBef>
                <a:spcPts val="275"/>
              </a:spcBef>
              <a:buClr>
                <a:srgbClr val="00458a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2165400" indent="-270000">
              <a:spcBef>
                <a:spcPts val="275"/>
              </a:spcBef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04292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AD8F-AD40-4E92-A33B-AB49AD322145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28/07/26</a:t>
            </a:fld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7652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436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21ED-0288-4099-A08E-692D1C8B613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3"/>
          <p:cNvSpPr/>
          <p:nvPr/>
        </p:nvSpPr>
        <p:spPr>
          <a:xfrm>
            <a:off x="0" y="6151680"/>
            <a:ext cx="78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294A-FF18-4D3C-B89A-683A1046EF65}" type="slidenum">
              <a:rPr b="1" lang="it-IT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826920" y="252360"/>
            <a:ext cx="8137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ttuazione del decreto 26 giugno 2012: le percentuali di copertura e l’importo massimo garant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0"/>
          <p:cNvSpPr/>
          <p:nvPr/>
        </p:nvSpPr>
        <p:spPr>
          <a:xfrm>
            <a:off x="971640" y="1105920"/>
            <a:ext cx="7993080" cy="234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spAutoFit/>
          </a:bodyPr>
          <a:p>
            <a:pPr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ffffff"/>
                </a:solidFill>
                <a:latin typeface="Arial"/>
              </a:rPr>
              <a:t>Le percentuali di copertura e l’importo massimo garanti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asellaDiTesto 1"/>
          <p:cNvSpPr/>
          <p:nvPr/>
        </p:nvSpPr>
        <p:spPr>
          <a:xfrm>
            <a:off x="1001880" y="3716280"/>
            <a:ext cx="78786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Operazioni a favore delle piccole imprese dell’indotto di imprese in amministrazione straordinaria di durata non inferiore a 5 anni: quota di copertura 80% e importo massimo garantito € 1,5 ml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sellaDiTesto 39"/>
          <p:cNvSpPr/>
          <p:nvPr/>
        </p:nvSpPr>
        <p:spPr>
          <a:xfrm>
            <a:off x="1001880" y="1383480"/>
            <a:ext cx="7878600" cy="31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Operazioni di Garanzia</a:t>
            </a:r>
            <a:r>
              <a:rPr b="0" lang="it-IT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diret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sellaDiTesto 40"/>
          <p:cNvSpPr/>
          <p:nvPr/>
        </p:nvSpPr>
        <p:spPr>
          <a:xfrm>
            <a:off x="1001880" y="4083840"/>
            <a:ext cx="7878600" cy="311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Arial"/>
              </a:rPr>
              <a:t>Operazioni di Controgaranz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sellaDiTesto 41"/>
          <p:cNvSpPr/>
          <p:nvPr/>
        </p:nvSpPr>
        <p:spPr>
          <a:xfrm>
            <a:off x="1001880" y="6453360"/>
            <a:ext cx="78786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 algn="just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Operazioni a favore delle piccole imprese dell’indotto di imprese in amministrazione straordinaria di durata non inferiore a 5 anni: quota di copertura 80% di 80% e importo massimo garantito € 1,5 ml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1"/>
          <a:stretch/>
        </p:blipFill>
        <p:spPr>
          <a:xfrm>
            <a:off x="1042920" y="1733400"/>
            <a:ext cx="7777080" cy="1982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"/>
          <p:cNvPicPr/>
          <p:nvPr/>
        </p:nvPicPr>
        <p:blipFill>
          <a:blip r:embed="rId2"/>
          <a:stretch/>
        </p:blipFill>
        <p:spPr>
          <a:xfrm>
            <a:off x="1042920" y="4437000"/>
            <a:ext cx="77770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09:41:48Z</dcterms:created>
  <dc:creator>ccara</dc:creator>
  <dc:description/>
  <dc:language>en-US</dc:language>
  <cp:lastModifiedBy>FBrunori</cp:lastModifiedBy>
  <cp:lastPrinted>2012-11-08T12:02:55Z</cp:lastPrinted>
  <dcterms:modified xsi:type="dcterms:W3CDTF">2012-12-05T18:38:12Z</dcterms:modified>
  <cp:revision>470</cp:revision>
  <dc:subject/>
  <dc:title>Diapositiva 1</dc:title>
</cp:coreProperties>
</file>