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2924-E230-4758-946C-603C63A8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67D-3B6B-4826-A339-D7A4399D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F72-7BB9-4DB2-B561-DA6674A3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735-89F4-48CC-A0D1-320423A1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8DA-B366-4EEB-A9D3-A83C96BB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053-2257-4028-9AE5-C8CD68E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E3F-6D8F-45EC-960F-0DDA38E3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20C-B9E1-4A52-9978-43ECB6E5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B78-7023-4125-AE8E-8EEBD821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353-B6CA-4F68-B3A7-90C600FB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74B-F105-47BE-8919-F247A4CF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273-EFB4-43C4-B1ED-8B8662F3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C1A0-AE10-4369-AF2F-BA8F35B6A5DD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B104-9B86-423E-B38A-3FB48C54656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0"/>
          <p:cNvSpPr/>
          <p:nvPr/>
        </p:nvSpPr>
        <p:spPr>
          <a:xfrm>
            <a:off x="428760" y="2286000"/>
            <a:ext cx="82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ericolos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compresi quelli di cui all’art. 212 c. 8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on pericolos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 lavorazione industriali, artigianali, da recupero e smaltimento rifiuti, fanghi …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Art. 184 c. 3 lett. c, d e g)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mmercianti, intermedi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sorz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stituiti per il recupero e il riciclaggio di particolari tipologie di rifiu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che raccolgono 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rasportano rifiuti specia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art. 212 c. 5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che effettuano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operazioni di recupero e smalt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uni e gli Enti e le imprese che gestiscono i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rifiuti urba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nel territorio della Regione  Camp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1430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egnaposto numero diapositiv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5FCF-4F3D-406C-9A82-861763132E1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47" name="Connettore 1 11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sellaDiTesto 9"/>
          <p:cNvSpPr/>
          <p:nvPr/>
        </p:nvSpPr>
        <p:spPr>
          <a:xfrm>
            <a:off x="7077960" y="628668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gue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ttangolo 7"/>
          <p:cNvGrpSpPr/>
          <p:nvPr/>
        </p:nvGrpSpPr>
        <p:grpSpPr>
          <a:xfrm>
            <a:off x="493560" y="2352600"/>
            <a:ext cx="7944120" cy="4322880"/>
            <a:chOff x="493560" y="2352600"/>
            <a:chExt cx="7944120" cy="4322880"/>
          </a:xfrm>
        </p:grpSpPr>
        <p:pic>
          <p:nvPicPr>
            <p:cNvPr id="51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352600"/>
              <a:ext cx="794412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0040" y="2357280"/>
              <a:ext cx="7929720" cy="42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rasporto marittimo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 il terminalista concessionario dell’area portuale di cui all’art. 18 della Legge 28 gennaio 1994, n. 84 e l’impresa portuale di cui all’art. 16 della citata Legge n. 84 del 1994, ai quali sono affidati i rifiuti in attesa di imbarco o allo sbarco, in attesa del successivo traspor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trasporto ferroviario, i responsabili degli uffici di gestione merci e gli operatori logistici presso le stazioni ferroviarie, gli interporti, gli impianti di terminalizzazione e gli scali merci ai quali sono affidati i rifiuti in attesa della presa in carico degli stessi da parte dell’impresa ferroviaria o dell’impresa che effettua il successivo traspor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2CF2-D153-4115-A523-415EC683E11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1214280"/>
            <a:ext cx="835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ettangolo 7"/>
          <p:cNvGrpSpPr/>
          <p:nvPr/>
        </p:nvGrpSpPr>
        <p:grpSpPr>
          <a:xfrm>
            <a:off x="493560" y="2779560"/>
            <a:ext cx="7944120" cy="2687760"/>
            <a:chOff x="493560" y="2779560"/>
            <a:chExt cx="7944120" cy="2687760"/>
          </a:xfrm>
        </p:grpSpPr>
        <p:pic>
          <p:nvPicPr>
            <p:cNvPr id="60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779560"/>
              <a:ext cx="794412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00040" y="2786040"/>
              <a:ext cx="7929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ericolosi 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&lt; 50 dipendent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compresi quelli di cui all’art. 212 c. 8 del Dlgs 152/200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prese e en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n pericolos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 lavorazione industriali, artigianali, da recupero e smaltimento rifiuti, fangh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… (Art. 184 c. 3 lett. c, d e g)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 da 11 a 50 dipenden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1054-7B6B-4E72-A191-832767AB37D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285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Arial"/>
                <a:ea typeface="Calibri"/>
              </a:rPr>
              <a:t>Iscrizione SISTRI: </a:t>
            </a: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-6480" y="1994040"/>
            <a:ext cx="9156960" cy="51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6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38:45Z</dcterms:created>
  <dc:creator>Roberta Scarinci</dc:creator>
  <dc:description/>
  <dc:language>en-US</dc:language>
  <cp:lastModifiedBy>Cristina Zani</cp:lastModifiedBy>
  <dcterms:modified xsi:type="dcterms:W3CDTF">2010-06-03T14:10:27Z</dcterms:modified>
  <cp:revision>191</cp:revision>
  <dc:subject/>
  <dc:title>SISTRI</dc:title>
</cp:coreProperties>
</file>